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3367-62DB-493A-8A3E-9FF3C0B68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1E92-C74D-43E5-9B27-01D80D2CE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57EB-90AE-42AD-99EE-66B9ECBC0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5079-DD89-45E6-9929-F92F67422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13EC-7432-4680-B21D-1C0985851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706E-0D9A-4BCC-A364-2ED3F5E26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FFA3-F6DA-46A2-8165-BD4734823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9FCB-855E-4735-9D52-BC5548018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29F7-89B4-42DB-AB2E-DE09DFF2C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70BE-F884-4F4C-ACA8-4EACF113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B7D5-964C-4723-B062-14DEC2D5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884C-E523-45BD-9024-50E80920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B8BBD-C268-44C8-8788-AAC8389FB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sh and James’s new sewerage treatment pl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2205000"/>
            <a:ext cx="81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ead of having a big hole of sewerage we can make the hol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4T04:46:11Z</dcterms:created>
  <dc:creator>joshua.grove</dc:creator>
  <dc:description/>
  <dc:language>en-US</dc:language>
  <cp:lastModifiedBy>joshua.grove</cp:lastModifiedBy>
  <dcterms:modified xsi:type="dcterms:W3CDTF">2009-08-04T04:48:16Z</dcterms:modified>
  <cp:revision>2</cp:revision>
  <dc:subject/>
  <dc:title>Slide 1</dc:title>
</cp:coreProperties>
</file>